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532-8E74-4F88-9980-D71C6BB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245-9E14-41F5-BE4F-C691D0B7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C8F-EAA5-4394-8CD0-55C6C3D7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7FB-314B-4463-8FD0-00D099F1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6EF-E3C3-465F-8945-59F4C39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76B-BAAE-42BA-A794-DAE86C5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A3B-62C2-4E5E-9E57-45F89B13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879-5705-4733-941E-99C3813C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A3F-3EEA-449C-B9B1-972ECF3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A82-A3DD-49A7-A68D-CD49037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04C-6A1D-49ED-A518-665C251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74C-F12C-40CC-BEBF-E2B5A0D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BDC-6166-414F-91F7-D42F6956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La Casa Para la Ven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095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By Mary Pe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05520" cy="320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320040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Book Antiqua"/>
              </a:rPr>
              <a:t>La casa est</a:t>
            </a:r>
            <a:r>
              <a:rPr b="0" lang="en-US" sz="1800" spc="-1" strike="noStrike">
                <a:solidFill>
                  <a:srgbClr val="006699"/>
                </a:solidFill>
                <a:latin typeface="Book Antiqua"/>
                <a:ea typeface="Arial"/>
              </a:rPr>
              <a:t>á localizada en Holliston.  Está en la Silver Lane.  La casa cuesta $300,00.  Tiene catorce grande cuartos.  Tienes dos cocinas.  Tienes un nevera, un fregadero, un horno y un estufa.  Tienes  tres cuarto de baño.  Dos ante la cuarto de baño es sobre pimer piso.  La sala de juegos es muy, muy , muy grande.  La columpio es en la reves ante la casa.  La sala de televisión es  grande y muy lujosa.  La casa es muy grande, muy lujosa y muy estup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3:06Z</dcterms:created>
  <dc:creator>pedersonmar</dc:creator>
  <dc:description/>
  <dc:language>en-US</dc:language>
  <cp:lastModifiedBy>pedersonmar</cp:lastModifiedBy>
  <dcterms:modified xsi:type="dcterms:W3CDTF">2012-05-22T13:00:15Z</dcterms:modified>
  <cp:revision>4</cp:revision>
  <dc:subject/>
  <dc:title>Slide 1</dc:title>
</cp:coreProperties>
</file>